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087-95FF-4F00-8F7E-3B4BAF90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FB5-3F0F-40F4-8E56-27C7DF1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A5F-3BAC-45F5-BBCE-7EA9E113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E31-DA75-46DA-9AC6-B4E5FCCF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9EA-D3F2-48AC-A4E9-A35A7496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725-5DC9-429A-B111-781B9C1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6BE-990B-4E1E-93A8-06C4FF2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811-ACB5-41A5-9173-31E0ED80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A07-D57E-4D3B-8391-67CFCDA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086-91FB-4FA4-AE3D-AB4978A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1C5-864A-4859-A3C3-9F44FF2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41E-6602-4BEA-ADA4-5C87161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dbeda6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D282-67CF-4CFF-A959-A5B89C9DB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ulley_class1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ulley_class2.PN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imple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w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2ndclasslever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ad is between the effort and the fulcr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is at one end of the l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is usually closer to the 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gain in fo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 op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rdclasslever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is between the load and the fulcr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a loss in force, but a gain in speed and d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 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CBD05165_0000[1]"/>
          <p:cNvPicPr/>
          <p:nvPr/>
        </p:nvPicPr>
        <p:blipFill>
          <a:blip r:embed="rId1"/>
          <a:stretch/>
        </p:blipFill>
        <p:spPr>
          <a:xfrm>
            <a:off x="2844720" y="2190600"/>
            <a:ext cx="345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changes the direction of the fo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lifting up, you can pull down using your body weight against the load (what is being lif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gains nothing in force, distance o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lley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wheel that turns around an ax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is a grooved wheel that turns around an axle (fulcrum), and a rope or a chain is used in the grove to lift heavy o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lley may be fixed, moveable, or used in comb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1365650000[1]"/>
          <p:cNvPicPr/>
          <p:nvPr/>
        </p:nvPicPr>
        <p:blipFill>
          <a:blip r:embed="rId1"/>
          <a:stretch/>
        </p:blipFill>
        <p:spPr>
          <a:xfrm>
            <a:off x="2362320" y="2666880"/>
            <a:ext cx="4671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ed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ttached to something that doesn't move such as the ceiling or wal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class l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fulcrum located at the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a bar the pulley uses a rope or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rst class pu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108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eable pulley acts as second class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 is between the fulcrum and th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econd class pu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752480"/>
            <a:ext cx="304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pulley is a system of movable pulle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advantage can be increased by using more than one pul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mage7"/>
          <p:cNvPicPr/>
          <p:nvPr/>
        </p:nvPicPr>
        <p:blipFill>
          <a:blip r:embed="rId1"/>
          <a:stretch/>
        </p:blipFill>
        <p:spPr>
          <a:xfrm>
            <a:off x="5257800" y="1676520"/>
            <a:ext cx="279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SL00652_0000[1]"/>
          <p:cNvPicPr/>
          <p:nvPr/>
        </p:nvPicPr>
        <p:blipFill>
          <a:blip r:embed="rId1"/>
          <a:stretch/>
        </p:blipFill>
        <p:spPr>
          <a:xfrm>
            <a:off x="2743200" y="3429000"/>
            <a:ext cx="428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sloping surface that does not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lined plane provides for NOT Less work but less effor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 off is greater distance to tra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reduce the force needed to overcome the force of gravity when lifting or lowering a heavy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lined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nclined_plan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290033"/>
          <p:cNvPicPr/>
          <p:nvPr/>
        </p:nvPicPr>
        <p:blipFill>
          <a:blip r:embed="rId1"/>
          <a:stretch/>
        </p:blipFill>
        <p:spPr>
          <a:xfrm>
            <a:off x="3581280" y="2666880"/>
            <a:ext cx="2262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rew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 inclined plane wrapped around a central 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ew has two (2) par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– Cylinder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ad – Inclined Plane wrapped around the cyl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s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sten things – the standard screw or nuts &amp; b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bits are screws used to make h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ckscrew is used to lift heavy objects; car j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ver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rigid bar that is free to turn about a fixed point called the fulc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 Lever has three (3) part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ance Force, Input Force or Loa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you are trying to move or li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ort Force or Output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work done on the L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cr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fixed pivot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turn a scr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force is changed by the threads into an outpu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force pulls the screw into the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between the threads &amp; the material holds the screw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215111"/>
          <p:cNvPicPr/>
          <p:nvPr/>
        </p:nvPicPr>
        <p:blipFill>
          <a:blip r:embed="rId1"/>
          <a:stretch/>
        </p:blipFill>
        <p:spPr>
          <a:xfrm>
            <a:off x="3352680" y="2514600"/>
            <a:ext cx="25606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dg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 inclined plane that tapers to a sharp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dge used to increase forc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erial remains in place while he wedge mov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dge changes the direction of the inpu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d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ges can be forced between two things to hold them tightly together, like nails or a door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ges can be used to split, cut or fa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eel &amp; Ax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0299215"/>
          <p:cNvPicPr/>
          <p:nvPr/>
        </p:nvPicPr>
        <p:blipFill>
          <a:blip r:embed="rId1"/>
          <a:stretch/>
        </p:blipFill>
        <p:spPr>
          <a:xfrm>
            <a:off x="3200400" y="2438280"/>
            <a:ext cx="28954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eel &amp; Axle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wheel connected to a rigid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el &amp; axle is a modified l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of the axle acts as a fulcrum – making the wheel a lever that rotates around in a cir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wheel and axle.jpg"/>
          <p:cNvPicPr/>
          <p:nvPr/>
        </p:nvPicPr>
        <p:blipFill>
          <a:blip r:embed="rId1"/>
          <a:stretch/>
        </p:blipFill>
        <p:spPr>
          <a:xfrm>
            <a:off x="4091040" y="4187880"/>
            <a:ext cx="27176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achin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3" descr="simple machines1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imple machines2.png"/>
          <p:cNvPicPr/>
          <p:nvPr/>
        </p:nvPicPr>
        <p:blipFill>
          <a:blip r:embed="rId1"/>
          <a:stretch/>
        </p:blipFill>
        <p:spPr>
          <a:xfrm>
            <a:off x="685800" y="298440"/>
            <a:ext cx="746748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everscolored2"/>
          <p:cNvPicPr/>
          <p:nvPr/>
        </p:nvPicPr>
        <p:blipFill>
          <a:blip r:embed="rId1"/>
          <a:stretch/>
        </p:blipFill>
        <p:spPr>
          <a:xfrm>
            <a:off x="-914400" y="2133720"/>
            <a:ext cx="10058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stclasslever"/>
          <p:cNvPicPr/>
          <p:nvPr/>
        </p:nvPicPr>
        <p:blipFill>
          <a:blip r:embed="rId1"/>
          <a:stretch/>
        </p:blipFill>
        <p:spPr>
          <a:xfrm>
            <a:off x="1828800" y="1523880"/>
            <a:ext cx="60199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crum (fixed pivot point) is located between the Effort (Input) and the Resistance (Output) Force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and the resistance move in opposite direction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ort force pushes down in order to lift the resistance or 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closer to the effort than to the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ss in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gain in speed and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371600" y="502920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666880" y="510552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18705600">
            <a:off x="1089000" y="3839760"/>
            <a:ext cx="990360" cy="1181160"/>
          </a:xfrm>
          <a:prstGeom prst="downArrow">
            <a:avLst>
              <a:gd name="adj1" fmla="val 50000"/>
              <a:gd name="adj2" fmla="val 2981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781680" y="426708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closer to the load than to the eff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ss in speed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gain in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371600" y="502920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562720" y="51814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8705600">
            <a:off x="1089000" y="3839760"/>
            <a:ext cx="990360" cy="1181160"/>
          </a:xfrm>
          <a:prstGeom prst="downArrow">
            <a:avLst>
              <a:gd name="adj1" fmla="val 50000"/>
              <a:gd name="adj2" fmla="val 2981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781680" y="426708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fulcrum is midway between the effort and the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change in force, speed or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1371600" y="510552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3809880" y="51814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8705600">
            <a:off x="1088640" y="3916080"/>
            <a:ext cx="990720" cy="1181160"/>
          </a:xfrm>
          <a:prstGeom prst="downArrow">
            <a:avLst>
              <a:gd name="adj1" fmla="val 50000"/>
              <a:gd name="adj2" fmla="val 2980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781680" y="4343400"/>
            <a:ext cx="8384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20:29:02Z</dcterms:created>
  <dc:creator>Mary Poarch</dc:creator>
  <dc:description/>
  <dc:language>en-US</dc:language>
  <cp:lastModifiedBy>jluckey</cp:lastModifiedBy>
  <dcterms:modified xsi:type="dcterms:W3CDTF">2013-02-07T15:55:26Z</dcterms:modified>
  <cp:revision>23</cp:revision>
  <dc:subject/>
  <dc:title>Types of Simple Machines</dc:title>
</cp:coreProperties>
</file>